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F196A-A6FA-411F-9B8E-D5B0A387C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C628-647F-4456-A360-ADF0C18B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C83DC-5B82-42D9-82A0-9ACE58D1C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D9FF4-9237-4FA0-A6CA-BB9C92635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CEDA-8F38-4855-8ADA-B1621611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2239A-ECBE-49E0-B382-F05ACC8E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808E-8246-47AB-857B-0FF8C4637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94E41-DA63-4024-B6CF-F3D6B922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93BEF-350C-47BB-AE25-F7B3FF30C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62BE-EF31-45CF-8523-084FE7F2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4E4E-D03F-4B55-9E65-6CA6FA5D0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541DB-4AF9-4AFD-A441-F969BF4BE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7645-D66D-4F09-A387-6214DC4D6FC1}"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Human Trafficking – Modern Day Slavery</a:t>
            </a:r>
            <a:br>
              <a:rPr sz="3200"/>
            </a:br>
            <a:r>
              <a:rPr b="0" lang="nb-NO" sz="2400" spc="-1" strike="noStrike">
                <a:solidFill>
                  <a:srgbClr val="000000"/>
                </a:solidFill>
                <a:latin typeface="Arial"/>
              </a:rPr>
              <a:t>English Subject Curriculum</a:t>
            </a:r>
            <a:endParaRPr b="0" lang="en-US" sz="2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How Are Victims Controlled by the Traffickers?</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Victims are controlled by thei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raffickers in many way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eating, starving, and raping their victim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Removal of passports, ID cards, and other documen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Isolating victims by keeping them locked up and not allowing any outside contac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ubjecting victims to debt bondage, i.e. making them work to pay off debt they are told they owe for travelling and living expens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orcing them to take drug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reatning them and their families with injury and death</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reatning to shame them by telling the victim’s family or friends what they are doing</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15" descr="oneviet_human_trafficking_1106"/>
          <p:cNvPicPr/>
          <p:nvPr/>
        </p:nvPicPr>
        <p:blipFill>
          <a:blip r:embed="rId1"/>
          <a:stretch/>
        </p:blipFill>
        <p:spPr>
          <a:xfrm>
            <a:off x="5143680" y="1830240"/>
            <a:ext cx="304776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hy Do People Fall Victim to Human Trafficking?</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overty</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employment</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busive family situation</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ck of education</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ck of economic opportunities in general</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ception by people they trust</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rmed conflict or war situations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nsumerism – hunger for material well being, fuelled by media – create a desire or need for more money</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pe for a better life – to fulfill their dream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c.</a:t>
            </a:r>
            <a:endParaRPr b="0" lang="en-US" sz="1800" spc="-1" strike="noStrike">
              <a:solidFill>
                <a:srgbClr val="000000"/>
              </a:solidFill>
              <a:latin typeface="Arial"/>
            </a:endParaRPr>
          </a:p>
        </p:txBody>
      </p:sp>
      <p:pic>
        <p:nvPicPr>
          <p:cNvPr id="72" name="Picture 5" descr="AC33BA38-4B8C-4E6F-A8EA-9ADE25487976_traffickingbig"/>
          <p:cNvPicPr/>
          <p:nvPr/>
        </p:nvPicPr>
        <p:blipFill>
          <a:blip r:embed="rId1"/>
          <a:stretch/>
        </p:blipFill>
        <p:spPr>
          <a:xfrm>
            <a:off x="5238720" y="2671920"/>
            <a:ext cx="2857680" cy="238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By Nina Sandström Angelsen</a:t>
            </a:r>
            <a:endParaRPr b="0" lang="en-US" sz="20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elbu videregående sk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Human Traffick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human traffick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llegal and criminal trade in human beings carried out by criminals who by force deprive men, women and children of their freedom and turn them into slaves, making them work or provide various services without their consent (and p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trafficking can take place across national borders as well as within a country</a:t>
            </a:r>
            <a:endParaRPr b="0" lang="en-US" sz="2000" spc="-1" strike="noStrike">
              <a:solidFill>
                <a:srgbClr val="000000"/>
              </a:solidFill>
              <a:latin typeface="Arial"/>
            </a:endParaRPr>
          </a:p>
        </p:txBody>
      </p:sp>
      <p:pic>
        <p:nvPicPr>
          <p:cNvPr id="45" name="Picture 7" descr="untitled n"/>
          <p:cNvPicPr/>
          <p:nvPr/>
        </p:nvPicPr>
        <p:blipFill>
          <a:blip r:embed="rId1"/>
          <a:stretch/>
        </p:blipFill>
        <p:spPr>
          <a:xfrm>
            <a:off x="4843440" y="2004840"/>
            <a:ext cx="364824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A UN Definition of Human Trafficking</a:t>
            </a:r>
            <a:r>
              <a:rPr b="0" lang="nb-NO"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nited Nations (UN) defi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trafficking 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recruitment, transportation, transfer, harbouring, or receipt of persons </a:t>
            </a:r>
            <a:r>
              <a:rPr b="1" i="1" lang="en-GB" sz="2000" spc="-1" strike="noStrike">
                <a:solidFill>
                  <a:srgbClr val="000000"/>
                </a:solidFill>
                <a:latin typeface="Arial"/>
              </a:rPr>
              <a:t>(the movement)</a:t>
            </a:r>
            <a:r>
              <a:rPr b="0" i="1"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y means of threat or use of force, or other forms of coercion, of abduction, of fraud, of deception, of abuse of power or a position of vulnerability or of the giving or receiving of payments or benefits to achieve the consent of a person having control over another person </a:t>
            </a:r>
            <a:r>
              <a:rPr b="1" i="1" lang="en-GB" sz="2000" spc="-1" strike="noStrike">
                <a:solidFill>
                  <a:srgbClr val="000000"/>
                </a:solidFill>
                <a:latin typeface="Arial"/>
              </a:rPr>
              <a:t>(the means)</a:t>
            </a:r>
            <a:r>
              <a:rPr b="0" i="1"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or the purpose of exploitation. Exploitation includes, at a minimum, the exploitation of the prostitution of others or other forms of sexual exploitation, forced labour or services, slavery or practices similar to slavery, servitude or the removal of organs </a:t>
            </a:r>
            <a:r>
              <a:rPr b="1" i="1" lang="en-GB" sz="2000" spc="-1" strike="noStrike">
                <a:solidFill>
                  <a:srgbClr val="000000"/>
                </a:solidFill>
                <a:latin typeface="Arial"/>
              </a:rPr>
              <a:t>(the purpose)</a:t>
            </a:r>
            <a:r>
              <a:rPr b="0" i="1"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cope of the Problem</a:t>
            </a:r>
            <a:br>
              <a:rPr sz="4400"/>
            </a:br>
            <a:r>
              <a:rPr b="0" lang="en-GB" sz="2000" spc="-1" strike="noStrike">
                <a:solidFill>
                  <a:srgbClr val="000000"/>
                </a:solidFill>
                <a:latin typeface="Arial"/>
              </a:rPr>
              <a:t>How Many Fall Victim to Human Trafficking?</a:t>
            </a:r>
            <a:endParaRPr b="0" lang="en-US" sz="2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e to the illegal nature of this kind of criminal activity, it is difficult to give an accurate estim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 believe that 4 million people fell victim to human trafficking in 2006</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 Government estimates that 800.000-900.000 people are trafficked across borders every yea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 of those trafficked into the USA every year are childre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king in human beings is the third largest illegal activity in the world, only surpassed by the trafficking of drugs and weapons - some believe that it will soon surpass both illegal trade in drug and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o Are the Victim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en, women and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majority of victims are believed to be women and children – a majority of these are believed to end up as sex work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st of the victims are poor, unemployed and/or uneducat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any are from Eastern Europe, Asia or Afric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8" descr="2007-12-12-women75457973-copy"/>
          <p:cNvPicPr/>
          <p:nvPr/>
        </p:nvPicPr>
        <p:blipFill>
          <a:blip r:embed="rId1"/>
          <a:stretch/>
        </p:blipFill>
        <p:spPr>
          <a:xfrm>
            <a:off x="5238720" y="1909800"/>
            <a:ext cx="285768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o Are the Trafficker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 traffickers may b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 of a local, national or international criminal groups or organizati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s of organized cr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reelance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ffickers are not alway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ang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are often ”trafficked” by someone they know:</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ndpar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cles and au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family members and relativ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yfriend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uses (ektefeller)</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neighbou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friend or acquaintance</a:t>
            </a:r>
            <a:endParaRPr b="0" lang="en-US" sz="1400" spc="-1" strike="noStrike">
              <a:solidFill>
                <a:srgbClr val="000000"/>
              </a:solidFill>
              <a:latin typeface="Arial"/>
            </a:endParaRPr>
          </a:p>
        </p:txBody>
      </p:sp>
      <p:pic>
        <p:nvPicPr>
          <p:cNvPr id="55" name="Picture 7" descr="683887-Grandmother-Hungary"/>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ow Do People Become Victims of Human Trafficking?</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y are deceived by false promises of:</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 good job</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n educa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 marriag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 better lif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y are kidnapped or abduct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y are sold by:</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amily member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riend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cquaintanc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eighbour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boyfriends (girlfriend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0" descr="human_trafficking"/>
          <p:cNvPicPr/>
          <p:nvPr/>
        </p:nvPicPr>
        <p:blipFill>
          <a:blip r:embed="rId1"/>
          <a:stretch/>
        </p:blipFill>
        <p:spPr>
          <a:xfrm>
            <a:off x="5226120" y="1600200"/>
            <a:ext cx="2882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hat Happens to Victims of Human Trafficking? Part 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ex indust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ny are sold into the sex industry where they are forced to work 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stitut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ripp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tors in pornographic fil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s in live-sex show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c.</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ced labou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mestic servan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riculture – farm work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ldiers (African childre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eatsho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tor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gging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taura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restr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c.</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10" descr="s-0884"/>
          <p:cNvPicPr/>
          <p:nvPr/>
        </p:nvPicPr>
        <p:blipFill>
          <a:blip r:embed="rId1"/>
          <a:stretch/>
        </p:blipFill>
        <p:spPr>
          <a:xfrm>
            <a:off x="5316480" y="1600200"/>
            <a:ext cx="2702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What Happens to Victims of Human Trafficking? Part II</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voluntary human organ donor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People are abducted and harvested for vital organs such a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Kidney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iv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ear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ung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yeballs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tc.</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bducted and sold off as brid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Young girls in Asia, especially in the rural parts of China, are abducted and sold off as brides to bachelor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bduction of children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n China a large number of children are abducted every yea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any of them are sold to childless coup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5" name="Picture 11" descr="untitled j"/>
          <p:cNvPicPr/>
          <p:nvPr/>
        </p:nvPicPr>
        <p:blipFill>
          <a:blip r:embed="rId1"/>
          <a:stretch/>
        </p:blipFill>
        <p:spPr>
          <a:xfrm>
            <a:off x="5089680" y="1600200"/>
            <a:ext cx="31557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1-30T23:45:59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